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8AEF-B6CF-47E9-BDA2-404B1F520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0B7A-275F-4C59-83FA-777E3F292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C69-D99F-4771-8A3D-1C65B440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AA3-8896-4B24-8675-C285C38F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B6D-FBF3-432D-AF47-814755B6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EED-4A28-4CC7-8F1F-759A0C18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D73-9EC2-4EA6-A525-DCB51610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737-6F5C-4F62-B8CF-A0B3DB05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A70-DE9F-4908-8006-A91C7231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6EF-2EDB-4309-9FD8-2C374551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AE2-456F-4691-A57D-A2880D5A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1C8-F48C-4AE9-A91F-7CBF91CB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1A9-5CE3-42CC-9C9D-87B53AE4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FE9-9378-49FC-B8AC-1F6D53CD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6D2D-058B-4C5D-9AEA-80D21DEF5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eik Florade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93960"/>
            <a:ext cx="17528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Sheik. Yo vivo en New York. Tengo catorce años. Tengo dos hermano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82960"/>
            <a:ext cx="46332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mi amigos. ¿Como estas? ¿Y como son tu famili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8:16Z</dcterms:modified>
  <cp:revision>102</cp:revision>
  <dc:subject/>
  <dc:title>Profile</dc:title>
</cp:coreProperties>
</file>